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5.png" ContentType="image/png"/>
  <Override PartName="/ppt/media/image22.png" ContentType="image/png"/>
  <Override PartName="/ppt/media/camera.wav" ContentType="audio/x-wav"/>
  <Override PartName="/ppt/media/image10.png" ContentType="image/png"/>
  <Override PartName="/ppt/media/image27.jpeg" ContentType="image/jpe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406-10E5-493D-81CA-DD66D3A0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3F7-E1D2-4B85-8937-F8D9DBC6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730-AA12-41D8-9F1B-DDAC44D9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B18-58A1-458A-9F6F-C2B178EE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15F7-E01B-48F8-B374-DCF6063F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FA25-0403-4EFD-809D-9088BB72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D373-9EFC-43C2-850D-44C5CE0D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5AD8-04DA-4DC7-AC55-52BE9ADC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8E49-954C-4616-A175-7E616B31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3C98-7E8B-4890-9FB9-5C3B8C55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FEC1-02F2-470F-8E65-29E3BA9C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A1B-90FB-4C34-95C9-F75B0ED6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B479-BA1B-4FED-AF62-B78428CF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AB59-1940-4CD8-B633-E75EDFEC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720D-3395-4632-B17B-B6111E6A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E992-B659-42AD-B512-A3B71537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EF96-FC53-42C5-ACA3-D841A0BD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26B2-AB25-4F0E-BCAC-6700FBEA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E6BD8-4DE4-4526-BAE9-ADB9E4F8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60BA-1B46-4372-A9F3-32887BB0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7E04F-6683-4243-ABF8-00FBC98C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68157-4336-467A-987B-EF9EF5FB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C96-3516-4F2B-9F17-0E6E8D78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DB6B-5D43-487C-9DEF-C05D4A4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7C24-A7B1-4AC7-821D-69EBAC9B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D976-AA2D-4AB9-A2DD-35494E15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240B-616D-4026-8E69-AFA7D2CB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0869B-34BA-4ACF-B48F-A06E957A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3D1A-CFF2-46FD-A4F7-857355C1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72FB9-43C0-40D7-A8C5-AB91D2AB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7DC-2AB3-4D60-B765-0DC447BF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389-4318-4D05-A082-386F6688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B88-8FEB-4CC4-9043-ECBC5B5F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55F-EE84-49A5-944B-F5BF4A8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9F5-2FDE-4930-9B6B-3D47C768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33B-E002-4196-A442-6B99E198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BCB2-BDB4-45BB-BF84-2D90DEEC1E6E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3CDC-BCE8-412B-BC3B-3013B914077E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13984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语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七年级  下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9BD4-E061-4C0A-BB72-F281B6789417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3860640"/>
            <a:ext cx="40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创艺简中圆"/>
                <a:ea typeface="创艺简中圆"/>
              </a:rPr>
              <a:t>课件制作    张国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490840" y="1773360"/>
            <a:ext cx="4241880" cy="204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1280" y="350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  <a:ea typeface="华文新魏"/>
              </a:rPr>
              <a:t>社     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76640" y="5584680"/>
          <a:ext cx="771480" cy="6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6640" y="5584680"/>
                    <a:ext cx="7714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04920" y="5583240"/>
          <a:ext cx="761760" cy="66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583240"/>
                    <a:ext cx="7617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293840" y="5605560"/>
          <a:ext cx="75564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3840" y="5605560"/>
                    <a:ext cx="755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72880" y="634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3600" y="63453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感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248440" y="5584680"/>
          <a:ext cx="771480" cy="668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48440" y="5584680"/>
                    <a:ext cx="7714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74920" y="5583240"/>
          <a:ext cx="76212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74920" y="5583240"/>
                    <a:ext cx="762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124000" y="6345360"/>
            <a:ext cx="10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阅读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265640" y="5586480"/>
          <a:ext cx="755640" cy="666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65640" y="5586480"/>
                    <a:ext cx="755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8220240" y="5584680"/>
          <a:ext cx="771480" cy="668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20240" y="5584680"/>
                    <a:ext cx="7714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246720" y="5583240"/>
          <a:ext cx="762120" cy="669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46720" y="5583240"/>
                    <a:ext cx="762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236000" y="5586480"/>
          <a:ext cx="755640" cy="666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236000" y="5586480"/>
                    <a:ext cx="755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154320" y="63453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阅读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2560" y="63453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阅读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32240" y="634536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阅读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72280" y="63453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阅读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1960" y="634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归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56600" y="6345360"/>
            <a:ext cx="7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扩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5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水乡社戏（陈）.jpg (31902 bytes)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看社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143000" y="723960"/>
          <a:ext cx="6934320" cy="520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723960"/>
                    <a:ext cx="693432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ff33"/>
                </a:solidFill>
                <a:latin typeface="Arial"/>
                <a:ea typeface="华文新魏"/>
              </a:rPr>
              <a:t>朗 读 课 文</a:t>
            </a:r>
            <a:br>
              <a:rPr sz="7200"/>
            </a:br>
            <a:r>
              <a:rPr b="1" lang="zh-CN" sz="7200" spc="-1" strike="noStrike">
                <a:solidFill>
                  <a:srgbClr val="66ff33"/>
                </a:solidFill>
                <a:latin typeface="Arial"/>
                <a:ea typeface="华文新魏"/>
              </a:rPr>
              <a:t>整 体 感 知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6348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选自什么地方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什么文体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06640" y="2923920"/>
            <a:ext cx="7580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选自《呐喊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（《鲁迅全集》第一卷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文体是小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116000" y="824040"/>
          <a:ext cx="6869160" cy="49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824040"/>
                    <a:ext cx="686916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133720" y="11494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ff33"/>
                </a:solidFill>
                <a:latin typeface="Times New Roman"/>
                <a:ea typeface="华文新魏"/>
              </a:rPr>
              <a:t>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06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ff33"/>
                </a:solidFill>
                <a:latin typeface="Arial"/>
                <a:ea typeface="华文新魏"/>
              </a:rPr>
              <a:t>阅　读</a:t>
            </a:r>
            <a:br>
              <a:rPr sz="7200"/>
            </a:br>
            <a:r>
              <a:rPr b="1" lang="zh-CN" sz="7200" spc="-1" strike="noStrike">
                <a:solidFill>
                  <a:srgbClr val="99ff33"/>
                </a:solidFill>
                <a:latin typeface="Arial"/>
                <a:ea typeface="华文新魏"/>
              </a:rPr>
              <a:t>前三自然段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452"/>
                </a:solidFill>
                <a:latin typeface="Arial"/>
              </a:rPr>
              <a:t>朗读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我们鲁镇的习惯，本来是凡有出嫁的女儿，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己还未当家，夏间便大抵回到母家去消夏。那时我的祖母虽然还康健，但母亲也已分担了些家务，所以夏期便不能多日的归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，只得在扫墓完毕之后，抽空去住几天，这时我便每年跟了我的母亲住在外祖母的家里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280" y="476280"/>
            <a:ext cx="1782720" cy="934920"/>
          </a:xfrm>
          <a:prstGeom prst="borderCallout1">
            <a:avLst>
              <a:gd name="adj1" fmla="val 18750"/>
              <a:gd name="adj2" fmla="val -8333"/>
              <a:gd name="adj3" fmla="val 190490"/>
              <a:gd name="adj4" fmla="val 161444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ǎ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67280" y="476280"/>
            <a:ext cx="1782720" cy="934920"/>
          </a:xfrm>
          <a:prstGeom prst="borderCallout1">
            <a:avLst>
              <a:gd name="adj1" fmla="val 18750"/>
              <a:gd name="adj2" fmla="val -8333"/>
              <a:gd name="adj3" fmla="val 366212"/>
              <a:gd name="adj4" fmla="val 163935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xǐ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09512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我们鲁镇的习惯……”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鲁镇”是鲁迅的故乡吗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迅哥儿”是鲁迅的小名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30132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不是。鲁迅是浙江绍兴人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本文体裁是小说，其中人名、地名是虚构的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04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解释词语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8640" y="2203200"/>
            <a:ext cx="20574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消夏：</a:t>
            </a:r>
            <a:br>
              <a:rPr sz="4400"/>
            </a:b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归省：</a:t>
            </a:r>
            <a:br>
              <a:rPr sz="4400"/>
            </a:b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乐土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不惮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47800" y="2192400"/>
            <a:ext cx="58024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过夏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回家看望父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快乐自由的地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不怕，不畏惧。惮，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809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452"/>
                </a:solidFill>
                <a:latin typeface="Arial"/>
                <a:ea typeface="方正琥珀简体"/>
              </a:rPr>
              <a:t>说文解字</a:t>
            </a:r>
            <a:r>
              <a:rPr b="1" lang="zh-CN" sz="4000" spc="-1" strike="noStrike">
                <a:solidFill>
                  <a:srgbClr val="bbe0e3"/>
                </a:solidFill>
                <a:latin typeface="Arial"/>
                <a:ea typeface="方正琥珀简体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省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骨文、金文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箭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有物看入眼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篆加了一条眼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义是“看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指看望父母，如：省亲、归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申为查看自己的内心世界，如：反省、省察、自省、三省吾身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284720" y="685800"/>
          <a:ext cx="4319640" cy="35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685800"/>
                    <a:ext cx="431964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3960" y="277020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2500"/>
              </a:spcBef>
              <a:buClr>
                <a:srgbClr val="cc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平桥村是一个离海边不远、极偏僻、临河、住户不满三十家、都种田、打鱼、只有一家很小的杂货店的小村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1440" y="124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452"/>
                </a:solidFill>
                <a:latin typeface="Arial"/>
              </a:rPr>
              <a:t>测测你的语言能力：平桥村是个什么样的地方？请用一句话说明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09480" y="211788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因为“我”在这里不但得到优待，又可以免念“秩秩斯干幽幽南山” 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firstslide"/>
          </p:cNvPr>
          <p:cNvSpPr/>
          <p:nvPr/>
        </p:nvSpPr>
        <p:spPr>
          <a:xfrm>
            <a:off x="655632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571500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739944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475240" y="3705120"/>
          <a:ext cx="2984400" cy="231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5240" y="3705120"/>
                    <a:ext cx="298440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样一个偏僻的小村庄，为什么是“我”的“乐土”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343400"/>
            <a:ext cx="1782720" cy="934920"/>
          </a:xfrm>
          <a:prstGeom prst="borderCallout1">
            <a:avLst>
              <a:gd name="adj1" fmla="val 18750"/>
              <a:gd name="adj2" fmla="val -8333"/>
              <a:gd name="adj3" fmla="val -129203"/>
              <a:gd name="adj4" fmla="val 214425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gā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一个问题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1440" y="1906560"/>
            <a:ext cx="820728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鲁迅在北京花两块大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相当于今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高价买了一张戏票，去看名角演戏，但看后却觉得还不如小时候在家乡看的“社戏”好，于是写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社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文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社戏”果真那样好吗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请学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社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42472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秩秩斯干幽幽南山”是什么意思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7488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《诗经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Times New Roman"/>
              </a:rPr>
              <a:t>·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斯干》的头两句。意思是潺潺的流水，深远的南山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秩秩，潺潺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斯，这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干，山涧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幽幽，深远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3573360"/>
            <a:ext cx="381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452"/>
                </a:solidFill>
                <a:latin typeface="楷体_GB2312"/>
                <a:ea typeface="楷体_GB2312"/>
              </a:rPr>
              <a:t>在这里是借代，代《诗经》之类难懂的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7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平桥村的小朋友待我如何？他们有什么特点？（</a:t>
            </a: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2-3</a:t>
            </a: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段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1049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热情好客，纯朴善良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6404040" y="6013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86400" y="5685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7323120" y="5685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570040" y="2997360"/>
          <a:ext cx="3657600" cy="284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0040" y="2997360"/>
                    <a:ext cx="365760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一部分与“社戏”有什么关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看社戏作铺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6404040" y="61574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5486400" y="58302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7323120" y="58302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056280" y="3429000"/>
          <a:ext cx="1828800" cy="160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56280" y="3429000"/>
                    <a:ext cx="182880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7" name="" descr=""/>
          <p:cNvPicPr/>
          <p:nvPr/>
        </p:nvPicPr>
        <p:blipFill>
          <a:blip r:embed="rId4"/>
          <a:srcRect l="7326" t="0" r="7326" b="5798"/>
          <a:stretch/>
        </p:blipFill>
        <p:spPr>
          <a:xfrm>
            <a:off x="757080" y="3141720"/>
            <a:ext cx="388620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90720" y="914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想去看社戏，遇到了怎样的困难？这时小伙伴们是怎样帮我解决困难的？说明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327672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热情能干，关心别人，富有同情心，聪明，善解人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219320" y="1230480"/>
          <a:ext cx="6781680" cy="443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230480"/>
                    <a:ext cx="6781680" cy="44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28440" y="2747880"/>
            <a:ext cx="6095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ff33"/>
                </a:solidFill>
                <a:latin typeface="华文新魏"/>
                <a:ea typeface="华文新魏"/>
              </a:rPr>
              <a:t>阅读</a:t>
            </a:r>
            <a:br>
              <a:rPr sz="7200"/>
            </a:br>
            <a:r>
              <a:rPr b="1" lang="zh-CN" sz="7200" spc="-1" strike="noStrike">
                <a:solidFill>
                  <a:srgbClr val="99ff33"/>
                </a:solidFill>
                <a:latin typeface="华文新魏"/>
                <a:ea typeface="华文新魏"/>
              </a:rPr>
              <a:t>“月 夜 行 船”</a:t>
            </a:r>
            <a:br>
              <a:rPr sz="7200"/>
            </a:b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的很重的心忽而轻松了，身体也似乎舒展到说不出的大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“轻松”和“舒展” 与前文有什么关系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347940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与前文因看不成社戏而沮丧形成鲜明对比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452"/>
                </a:solidFill>
                <a:latin typeface="Arial"/>
              </a:rPr>
              <a:t>朗读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4920" y="1273320"/>
            <a:ext cx="8458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出门，便望见月下的平桥内泊着一支白篷的航船，大家跳下船，双喜拔前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阿发拔后篙，年幼的都陪我坐在舱中，较大的聚在船尾。母亲送出来吩咐“要小心”的时候，我们已经点开船，在桥石上一磕，退后几尺，即又上前出了桥。于是架起两支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一支两人，一里一换，有说笑的，有嚷的，夹着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潺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船头激水的声音，在左右都是碧绿的豆麦田地的河流中，飞一般径向赵庄前进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539640"/>
            <a:ext cx="1297080" cy="692280"/>
          </a:xfrm>
          <a:prstGeom prst="borderCallout1">
            <a:avLst>
              <a:gd name="adj1" fmla="val 18750"/>
              <a:gd name="adj2" fmla="val -8333"/>
              <a:gd name="adj3" fmla="val 168805"/>
              <a:gd name="adj4" fmla="val 131699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gā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51320" y="5545080"/>
            <a:ext cx="1049400" cy="692280"/>
          </a:xfrm>
          <a:prstGeom prst="borderCallout1">
            <a:avLst>
              <a:gd name="adj1" fmla="val 18750"/>
              <a:gd name="adj2" fmla="val -8333"/>
              <a:gd name="adj3" fmla="val -230736"/>
              <a:gd name="adj4" fmla="val 16459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l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32840" y="5113440"/>
            <a:ext cx="1528560" cy="691920"/>
          </a:xfrm>
          <a:prstGeom prst="borderCallout1">
            <a:avLst>
              <a:gd name="adj1" fmla="val 18750"/>
              <a:gd name="adj2" fmla="val -8333"/>
              <a:gd name="adj3" fmla="val -109402"/>
              <a:gd name="adj4" fmla="val -51504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请指出描写少年朋友们开船动作的词语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5572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　——跳　拔　点　磕　退　出　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2280" y="3825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上这些动作描写，反映出小朋友们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50133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　——能干，驾船技术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324480" y="2819520"/>
            <a:ext cx="1905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动作具体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3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128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朗读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134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两岸的豆麦和河底的水草所发散出来的清香，夹杂在水气中扑面的吹来；月色便朦胧在这水气里。淡黑的起伏的连山，仿佛是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跃的铁的兽脊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，都远远地向船尾跑去了，但我却还以为船慢。他们换了四回手，渐望见依稀的赵庄，而且似乎听到歌吹了，还有几点火，料想便是戏台，但或者也许是渔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00720" y="765000"/>
            <a:ext cx="1314360" cy="719280"/>
          </a:xfrm>
          <a:prstGeom prst="borderCallout1">
            <a:avLst>
              <a:gd name="adj1" fmla="val 18750"/>
              <a:gd name="adj2" fmla="val -8333"/>
              <a:gd name="adj3" fmla="val 316115"/>
              <a:gd name="adj4" fmla="val -5277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ǒ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89640" y="765000"/>
            <a:ext cx="1314720" cy="719280"/>
          </a:xfrm>
          <a:prstGeom prst="borderCallout1">
            <a:avLst>
              <a:gd name="adj1" fmla="val 18750"/>
              <a:gd name="adj2" fmla="val -8333"/>
              <a:gd name="adj3" fmla="val 314569"/>
              <a:gd name="adj4" fmla="val -27898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39640" y="22003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意思是月光不明。原来是形容词，这里作动词。　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4680" y="12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朦胧”是什么意思？在这里作什么词用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740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52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5452"/>
                </a:solidFill>
                <a:latin typeface="Times New Roman"/>
              </a:rPr>
              <a:t>依稀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5960" y="4743360"/>
            <a:ext cx="4603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隐隐约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143000" y="892080"/>
          <a:ext cx="693432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892080"/>
                    <a:ext cx="693432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733920" y="33685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鲁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ff6600"/>
                </a:solidFill>
                <a:latin typeface="Arial"/>
                <a:ea typeface="华文新魏"/>
              </a:rPr>
              <a:t>社     戏</a:t>
            </a:r>
            <a:endParaRPr b="1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98560" y="1261800"/>
            <a:ext cx="784872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452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5452"/>
                </a:solidFill>
                <a:latin typeface="Arial"/>
              </a:rPr>
              <a:t>淡黑的起伏的连山，仿佛是踊跃的铁的兽脊似的，都远远地向船尾跑去了”。</a:t>
            </a:r>
            <a:br>
              <a:rPr sz="2800"/>
            </a:br>
            <a:r>
              <a:rPr b="1" lang="zh-CN" sz="2800" spc="-1" strike="noStrike">
                <a:solidFill>
                  <a:srgbClr val="005452"/>
                </a:solidFill>
                <a:latin typeface="Arial"/>
              </a:rPr>
              <a:t>山为什么会“踊跃”？为什么会向船尾跑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1280" y="3068280"/>
            <a:ext cx="7991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2001"/>
              </a:spcBef>
              <a:buClr>
                <a:srgbClr val="005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52"/>
                </a:solidFill>
                <a:latin typeface="Arial"/>
                <a:ea typeface="楷体_GB2312"/>
              </a:rPr>
              <a:t>船快时上下动荡，会觉得山在“踊跃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2001"/>
              </a:spcBef>
              <a:buClr>
                <a:srgbClr val="005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52"/>
                </a:solidFill>
                <a:latin typeface="Arial"/>
                <a:ea typeface="楷体_GB2312"/>
              </a:rPr>
              <a:t>向船尾跑，也是因为船快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52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但我却还以为船慢”表现“我”什么心情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2001"/>
              </a:spcBef>
              <a:buClr>
                <a:srgbClr val="005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表现看社戏的急切心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课文从视觉、听觉、触觉、嗅觉多方面着笔，写了我一路上的所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指出下列句子是从什么角度着笔描写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两岸的豆麦和河底的水草所发散出来的清香，夹杂在水气中扑面的吹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色便朦胧在这水气里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淡黑的起伏的连山，仿佛是踊跃的铁的兽脊似的，都远远地向船尾跑去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那声音大概是横笛，宛转，悠扬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54800" y="30067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嗅觉，触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92680" y="3510000"/>
            <a:ext cx="15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视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83400" y="445464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视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16920" y="4957920"/>
            <a:ext cx="12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听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文段描写的是什么季节？</a:t>
            </a:r>
            <a:br>
              <a:rPr sz="3600"/>
            </a:b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根据是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17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2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初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2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根据“两岸的豆麦”。这两种农作物的成熟期是在初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2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前文有“消夏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firstslide"/>
          </p:cNvPr>
          <p:cNvSpPr/>
          <p:nvPr/>
        </p:nvSpPr>
        <p:spPr>
          <a:xfrm>
            <a:off x="6556320" y="6148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previousslide"/>
          </p:cNvPr>
          <p:cNvSpPr/>
          <p:nvPr/>
        </p:nvSpPr>
        <p:spPr>
          <a:xfrm>
            <a:off x="5638680" y="5820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7475400" y="5820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rcRect l="7142" t="0" r="8523" b="4133"/>
          <a:stretch/>
        </p:blipFill>
        <p:spPr>
          <a:xfrm>
            <a:off x="4932360" y="2548080"/>
            <a:ext cx="3887640" cy="29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朗读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4000" y="1519200"/>
            <a:ext cx="7724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那声音大概是横笛，宛转，悠扬，使我的心也沉静，然而又自失起来，觉得要和他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弥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含着豆麦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蕴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之香的夜气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那火接近了，果然是渔火；我才记得先前望见的也不是赵庄。那是正对船头的一丛松柏林，我去年也曾经去游玩过，还看见破的石马倒在地下，一个石羊蹲在草里呢。过了那林，船便弯进了叉港，于是赵庄便真在眼前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32000" y="765000"/>
            <a:ext cx="1656000" cy="648000"/>
          </a:xfrm>
          <a:prstGeom prst="borderCallout1">
            <a:avLst>
              <a:gd name="adj1" fmla="val 18750"/>
              <a:gd name="adj2" fmla="val -8333"/>
              <a:gd name="adj3" fmla="val 271569"/>
              <a:gd name="adj4" fmla="val -69703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ísà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72360" y="765000"/>
            <a:ext cx="1668240" cy="648000"/>
          </a:xfrm>
          <a:prstGeom prst="borderCallout1">
            <a:avLst>
              <a:gd name="adj1" fmla="val 18750"/>
              <a:gd name="adj2" fmla="val -8333"/>
              <a:gd name="adj3" fmla="val 275245"/>
              <a:gd name="adj4" fmla="val -79259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yùnzǎ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2114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452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5452"/>
                </a:solidFill>
                <a:latin typeface="宋体"/>
              </a:rPr>
              <a:t>自失”是什么意思？</a:t>
            </a:r>
            <a:br>
              <a:rPr sz="4000"/>
            </a:br>
            <a:r>
              <a:rPr b="1" lang="zh-CN" sz="4000" spc="-1" strike="noStrike">
                <a:solidFill>
                  <a:srgbClr val="005452"/>
                </a:solidFill>
                <a:latin typeface="宋体"/>
              </a:rPr>
              <a:t>为什么 “我”会 “自失”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6200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“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自失”是指“我”听得出神，忘了自己。这是因为心情愉快，夜景迷人而陶醉其中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归纳：夏夜行船是怎样烘托“我”看社戏的急切心情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1960" y="2276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船很快，以至起伏的连山如奔兽向后跑，但我却以为船慢，烘托我急切的心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听到歌声，料想便是戏台，心情更加迫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婉转、悠扬的笛声，使我沉静，反衬此前的的着急心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1066680" y="1068480"/>
            <a:ext cx="6934320" cy="426564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ff33"/>
                </a:solidFill>
                <a:latin typeface="Arial"/>
                <a:ea typeface="华文新魏"/>
              </a:rPr>
              <a:t>阅读“回航”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452"/>
                </a:solidFill>
                <a:latin typeface="Arial"/>
              </a:rPr>
              <a:t>朗读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月还没有落，仿佛看戏也并不很久似的，而一离赵庄，月光又显得格外的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洁。回望戏台在灯火光中，却又如初来未到时候一般，又漂渺得像一座仙山楼阁，满被红霞罩着了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16360" y="4653000"/>
            <a:ext cx="1439640" cy="934920"/>
          </a:xfrm>
          <a:prstGeom prst="borderCallout1">
            <a:avLst>
              <a:gd name="adj1" fmla="val 18750"/>
              <a:gd name="adj2" fmla="val -8333"/>
              <a:gd name="adj3" fmla="val -134634"/>
              <a:gd name="adj4" fmla="val -68245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jiǎ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漂渺”是什么意思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2204640"/>
            <a:ext cx="5977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即“缥缈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隐隐约约，若有若无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258920" y="4076640"/>
          <a:ext cx="2819520" cy="20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4076640"/>
                    <a:ext cx="281952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42800" y="2549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　　——景物描写，表达对社戏的依依不舍之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两句属于什么描写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达什么心情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52480" y="4149720"/>
          <a:ext cx="2819520" cy="20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4149720"/>
                    <a:ext cx="281952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73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解题：“社”是什么意思？</a:t>
            </a:r>
            <a:br>
              <a:rPr sz="3600"/>
            </a:b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            “社戏”是什么戏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61912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社”，左边是一个祭坛，右边是土，原意是土地神或土地庙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绍兴，“社”还是一种区域名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社戏”就是“社”中每年所演的戏，用来祭神，以祈求风调雨顺，五谷丰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093080" y="3371760"/>
            <a:ext cx="1628640" cy="2649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1176" t="0" r="0" b="0"/>
          <a:stretch/>
        </p:blipFill>
        <p:spPr>
          <a:xfrm>
            <a:off x="7093080" y="692280"/>
            <a:ext cx="158904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朗读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不多久，松柏林早在船后了，船行也并不慢，但周围的黑暗只是浓，可知已经到了深夜。他们一面议论着戏子，或骂，或笑，一面加紧的摇船。这一次船头的激水声更其响亮了，那航船，就像一条大白鱼背着一群孩子在浪花里蹿，连夜渔的几个老渔父，也停了艇子看着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采起来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87640" y="5805360"/>
            <a:ext cx="1079640" cy="601920"/>
          </a:xfrm>
          <a:prstGeom prst="borderCallout1">
            <a:avLst>
              <a:gd name="adj1" fmla="val 18750"/>
              <a:gd name="adj2" fmla="val -8333"/>
              <a:gd name="adj3" fmla="val -26648"/>
              <a:gd name="adj4" fmla="val -87351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185480"/>
            <a:ext cx="81342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“这一次船头的激水声更其响亮了”，而来时是“夹着潺潺的船头激水的声音”，相比之下，哪个更快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00720" y="3715920"/>
            <a:ext cx="4248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返航时更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066680" y="3645000"/>
          <a:ext cx="2819520" cy="20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645000"/>
                    <a:ext cx="281952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24000" y="263700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为小朋友们驾船技术高而喝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侧面描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143000" y="4076640"/>
          <a:ext cx="1905120" cy="17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076640"/>
                    <a:ext cx="190512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912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渔父为什么喝彩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属于什么描写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0320" y="672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“那航船，就像一条大白鱼背着一群孩子在浪花里蹿”，是什么修辞手法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1360" y="2654280"/>
            <a:ext cx="721044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用比喻而不直接陈述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生动形象，有儿童情趣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“蹿”改为“游”好不好？为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——“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游”不能表现船之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4920" y="1952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比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1295280" y="739800"/>
          <a:ext cx="655344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739800"/>
                    <a:ext cx="655344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55627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7246800" y="600480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ff33"/>
                </a:solidFill>
                <a:latin typeface="Arial"/>
                <a:ea typeface="华文新魏"/>
              </a:rPr>
              <a:t>阅读“偷豆”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7120" y="304560"/>
            <a:ext cx="5943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452"/>
                </a:solidFill>
                <a:latin typeface="Arial"/>
              </a:rPr>
              <a:t>请填写“偷豆”的——</a:t>
            </a:r>
            <a:br>
              <a:rPr sz="3600"/>
            </a:b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　</a:t>
            </a:r>
            <a:r>
              <a:rPr b="1" lang="zh-CN" sz="3800" spc="-1" strike="noStrike">
                <a:solidFill>
                  <a:srgbClr val="005452"/>
                </a:solidFill>
                <a:latin typeface="Arial"/>
              </a:rPr>
              <a:t>原因：</a:t>
            </a:r>
            <a:br>
              <a:rPr sz="3800"/>
            </a:br>
            <a:r>
              <a:rPr b="1" lang="zh-CN" sz="3800" spc="-1" strike="noStrike">
                <a:solidFill>
                  <a:srgbClr val="005452"/>
                </a:solidFill>
                <a:latin typeface="Arial"/>
              </a:rPr>
              <a:t>　条件： </a:t>
            </a:r>
            <a:br>
              <a:rPr sz="3800"/>
            </a:br>
            <a:r>
              <a:rPr b="1" lang="zh-CN" sz="3800" spc="-1" strike="noStrike">
                <a:solidFill>
                  <a:srgbClr val="005452"/>
                </a:solidFill>
                <a:latin typeface="Arial"/>
              </a:rPr>
              <a:t>　提议者：</a:t>
            </a:r>
            <a:br>
              <a:rPr sz="3800"/>
            </a:br>
            <a:r>
              <a:rPr b="1" lang="zh-CN" sz="3800" spc="-1" strike="noStrike">
                <a:solidFill>
                  <a:srgbClr val="005452"/>
                </a:solidFill>
                <a:latin typeface="Arial"/>
              </a:rPr>
              <a:t>　指挥者：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484360" y="1625760"/>
            <a:ext cx="6337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  <a:ea typeface="楷体_GB2312"/>
              </a:rPr>
              <a:t>很疲乏，许久没有东西吃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  <a:ea typeface="楷体_GB2312"/>
              </a:rPr>
              <a:t>罗汉豆正旺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相</a:t>
            </a:r>
            <a:r>
              <a:rPr b="1" lang="zh-CN" sz="3600" spc="-1" strike="noStrike">
                <a:solidFill>
                  <a:srgbClr val="005452"/>
                </a:solidFill>
                <a:latin typeface="Arial"/>
                <a:ea typeface="楷体_GB2312"/>
              </a:rPr>
              <a:t>，柴火又现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  <a:ea typeface="楷体_GB2312"/>
              </a:rPr>
              <a:t>　桂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  <a:ea typeface="楷体_GB2312"/>
              </a:rPr>
              <a:t>　双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600200" y="4221000"/>
            <a:ext cx="3505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前文早有伏笔——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0" name=""/>
          <p:cNvSpPr/>
          <p:nvPr/>
        </p:nvSpPr>
        <p:spPr>
          <a:xfrm>
            <a:off x="1619280" y="5229360"/>
            <a:ext cx="706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2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左右都是碧绿的豆麦田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0360" y="3502080"/>
            <a:ext cx="1944720" cy="934920"/>
          </a:xfrm>
          <a:prstGeom prst="borderCallout1">
            <a:avLst>
              <a:gd name="adj1" fmla="val 18750"/>
              <a:gd name="adj2" fmla="val -8333"/>
              <a:gd name="adj3" fmla="val -89814"/>
              <a:gd name="adj4" fmla="val -4546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xià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9880" y="1412640"/>
            <a:ext cx="352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偷”谁家的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谁的主张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23640" y="2666520"/>
            <a:ext cx="4475160" cy="14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偷”阿发家的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阿发自己的主张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84720" y="466740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这是偷吗？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8" name=""/>
          <p:cNvSpPr/>
          <p:nvPr/>
        </p:nvSpPr>
        <p:spPr>
          <a:xfrm>
            <a:off x="700200" y="4051440"/>
            <a:ext cx="5538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这是大公无私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是热情好客、淳朴憨厚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rcRect l="8825" t="0" r="7300" b="5661"/>
          <a:stretch/>
        </p:blipFill>
        <p:spPr>
          <a:xfrm>
            <a:off x="5257800" y="1558800"/>
            <a:ext cx="34290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喜以为再多偷，倘给阿发的娘知道是要哭骂的，于是各人便到六一公公的田里又各偷了一大捧。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双喜的主张说明他“情商”很高，请你说明为什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000" y="4098600"/>
            <a:ext cx="8062920" cy="14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双喜善于为他人着想，考虑到了阿发家可能的难处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3608280" y="2583000"/>
            <a:ext cx="488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机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憨厚无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有头脑，考虑周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74280" y="105876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从“偷豆”一事来看，下面几个人各有有什么性格特点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桂生——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阿发——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双喜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730520" y="4724280"/>
          <a:ext cx="1546200" cy="13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0520" y="4724280"/>
                    <a:ext cx="154620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9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4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1960" y="1267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久豆熟了，便任凭航船浮在水面上，都围起来用手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吃。</a:t>
            </a:r>
            <a:br>
              <a:rPr sz="40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用手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吃”是怎样吃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模仿一下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4000" y="3860280"/>
            <a:ext cx="799308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撮：用两三个手指头捏细碎的东西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富有童心和野趣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26200" y="2781360"/>
            <a:ext cx="1225440" cy="647640"/>
          </a:xfrm>
          <a:prstGeom prst="borderCallout1">
            <a:avLst>
              <a:gd name="adj1" fmla="val 18750"/>
              <a:gd name="adj2" fmla="val -8333"/>
              <a:gd name="adj3" fmla="val -52203"/>
              <a:gd name="adj4" fmla="val -131865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u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1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27120" y="380880"/>
          <a:ext cx="402120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7120" y="380880"/>
                    <a:ext cx="40212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557064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7246800" y="600480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21520" y="2870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周树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2200" y="3670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浙江绍兴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02200" y="4470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伟大的文学家、思想家、革命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02200" y="2854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6040" y="47628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鲁迅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81—193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了哪些“预后”的工作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洗器具，豆荚豆壳全抛在河水里，什么痕迹也没有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八公公如果骂，便要他归还去年在岸边拾去的一枝枯桕树，而且当面叫他“八癞子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257800" y="251460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“</a:t>
            </a: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销赃灭迹”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738680" y="429264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极富儿童情趣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5" name=""/>
          <p:cNvSpPr/>
          <p:nvPr/>
        </p:nvSpPr>
        <p:spPr>
          <a:xfrm>
            <a:off x="2050920" y="5300640"/>
            <a:ext cx="55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八公公骂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32000" y="4581360"/>
            <a:ext cx="1079280" cy="865440"/>
          </a:xfrm>
          <a:prstGeom prst="borderCallout1">
            <a:avLst>
              <a:gd name="adj1" fmla="val 18750"/>
              <a:gd name="adj2" fmla="val -8333"/>
              <a:gd name="adj3" fmla="val -67157"/>
              <a:gd name="adj4" fmla="val 189263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ji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3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1295280" y="588960"/>
          <a:ext cx="647712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8896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1676520" y="2239920"/>
            <a:ext cx="6019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ff33"/>
                </a:solidFill>
                <a:latin typeface="Arial"/>
                <a:ea typeface="华文新魏"/>
              </a:rPr>
              <a:t>阅读结尾部分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朗读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楷体_GB2312"/>
                <a:ea typeface="楷体_GB2312"/>
              </a:rPr>
              <a:t>　　“双喜，你们这班小鬼，昨天偷了我的豆了罢</a:t>
            </a:r>
            <a:r>
              <a:rPr b="1" lang="en-US" sz="3600" spc="-1" strike="noStrike">
                <a:solidFill>
                  <a:srgbClr val="005452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5452"/>
                </a:solidFill>
                <a:latin typeface="楷体_GB2312"/>
                <a:ea typeface="楷体_GB2312"/>
              </a:rPr>
              <a:t>又不肯好好的摘，踏坏了不少。”我抬头看时，是六一公公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掉</a:t>
            </a:r>
            <a:r>
              <a:rPr b="1" lang="zh-CN" sz="3600" spc="-1" strike="noStrike">
                <a:solidFill>
                  <a:srgbClr val="005452"/>
                </a:solidFill>
                <a:latin typeface="楷体_GB2312"/>
                <a:ea typeface="楷体_GB2312"/>
              </a:rPr>
              <a:t>着小船，卖了豆回来了，船肚里还有剩下的一堆豆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995640" y="4797360"/>
            <a:ext cx="2313000" cy="1079640"/>
          </a:xfrm>
          <a:prstGeom prst="borderCallout1">
            <a:avLst>
              <a:gd name="adj1" fmla="val 18750"/>
              <a:gd name="adj2" fmla="val -8333"/>
              <a:gd name="adj3" fmla="val -98527"/>
              <a:gd name="adj4" fmla="val 128004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zhà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同“棹”，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84360" y="28036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2500"/>
              </a:spcBef>
              <a:buClr>
                <a:srgbClr val="cc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他责怪的不是“偷”，而是“踏               坏了不少”——不珍惜劳动果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" action="ppaction://hlinkshowjump?jump=previousslide"/>
          </p:cNvPr>
          <p:cNvSpPr/>
          <p:nvPr/>
        </p:nvSpPr>
        <p:spPr>
          <a:xfrm>
            <a:off x="55627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" action="ppaction://hlinkshowjump?jump=nextslide"/>
          </p:cNvPr>
          <p:cNvSpPr/>
          <p:nvPr/>
        </p:nvSpPr>
        <p:spPr>
          <a:xfrm>
            <a:off x="7246800" y="600480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3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六一公公的话，</a:t>
            </a:r>
            <a:br>
              <a:rPr sz="3600"/>
            </a:b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是否责怪我们“偷”豆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2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363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朗读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5280" y="1072800"/>
            <a:ext cx="799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六一公公看见我，便停了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笑道，“请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?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是应该的。”于是对我说，“迅哥儿，昨天的戏可好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点一点头，说道，“好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豆可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吃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又点一点头，说道，“很好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不料六一公公竟非常感激起来，将大拇指一翘，得意的说道，“这真是大市镇里出来的读过书的人才识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的豆种是粒粒挑选过的，乡下人不识好歹，还说我的豆比不上别人的呢。我今天也要送些给我们的姑奶奶尝尝去……”他于是打着楫子过去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96360" y="2349360"/>
            <a:ext cx="903240" cy="648000"/>
          </a:xfrm>
          <a:prstGeom prst="borderCallout1">
            <a:avLst>
              <a:gd name="adj1" fmla="val 18750"/>
              <a:gd name="adj2" fmla="val -8333"/>
              <a:gd name="adj3" fmla="val -142157"/>
              <a:gd name="adj4" fmla="val -18734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j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8000" y="2421000"/>
            <a:ext cx="1368360" cy="647640"/>
          </a:xfrm>
          <a:prstGeom prst="borderCallout1">
            <a:avLst>
              <a:gd name="adj1" fmla="val 18750"/>
              <a:gd name="adj2" fmla="val -8333"/>
              <a:gd name="adj3" fmla="val 65194"/>
              <a:gd name="adj4" fmla="val 173435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hō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料六一公公竟非常感激起来”，六一公公为什么感激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01800" y="2270160"/>
            <a:ext cx="7557840" cy="25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因“我”说他的豆“很好”而感激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六一公公有什么性格特点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宽厚，好客，淳朴可亲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692360" y="4724280"/>
            <a:ext cx="54878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别人理解、肯定，便感恩图报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多么淳朴可亲！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000" y="919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乡下人不识好歹，还说我的豆比不上别人的呢。我今天也要送些给我们的姑奶奶尝尝去……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“乡下人”指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“姑奶奶”指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427200" y="2923920"/>
            <a:ext cx="29509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双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迅哥儿的母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763640" y="4754520"/>
          <a:ext cx="1546200" cy="13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4754520"/>
                    <a:ext cx="154620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3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8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1041480"/>
            <a:ext cx="7848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我吃了豆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却并没有昨夜的豆那么好。</a:t>
            </a:r>
            <a:br>
              <a:rPr sz="36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90400" y="29541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因为没有了昨夜的愉快生活，没有了昨夜的情趣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447920" y="4581360"/>
          <a:ext cx="1828800" cy="15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581360"/>
                    <a:ext cx="18288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750960" y="41799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因为那夜的豆是在“乐土”吃的，因为那夜的生活难忘，因为农村小朋友的情谊令人终生怀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>
            <a:off x="55627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7246800" y="600480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6200" y="890280"/>
            <a:ext cx="7723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从前文看，戏并不好，看得令人昏昏欲睡，气得少年们破口大骂；豆，也只是普通的蚕豆，可是，作者为什么却说“真的，</a:t>
            </a: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一直到现在，我实在再没有吃到那夜似的好豆，——也不再看到那夜似的好戏了”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1295280" y="588960"/>
          <a:ext cx="647712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8896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1676520" y="2239920"/>
            <a:ext cx="6019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ff33"/>
                </a:solidFill>
                <a:latin typeface="Arial"/>
                <a:ea typeface="华文新魏"/>
              </a:rPr>
              <a:t>归纳    复习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990720" y="189000"/>
          <a:ext cx="403524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9000"/>
                    <a:ext cx="40352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81480" y="1066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绍兴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鲁迅祖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15640" y="326520"/>
            <a:ext cx="7040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读准下列字音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95280" y="1434960"/>
            <a:ext cx="14493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归</a:t>
            </a: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辈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惮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慢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撺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52680" y="1434960"/>
            <a:ext cx="14493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潺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絮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蕴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家</a:t>
            </a: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04080" y="1434960"/>
            <a:ext cx="1380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旺</a:t>
            </a: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漂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纠</a:t>
            </a:r>
            <a:r>
              <a:rPr b="1" lang="zh-CN" sz="3600" spc="-1" strike="noStrike">
                <a:solidFill>
                  <a:srgbClr val="005452"/>
                </a:solidFill>
                <a:latin typeface="Times New Roman"/>
              </a:rPr>
              <a:t>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14600" y="1511280"/>
            <a:ext cx="158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14600" y="1434960"/>
            <a:ext cx="172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xǐ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há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dà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dà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j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cuāndu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f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86400" y="1434960"/>
            <a:ext cx="1449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chá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xùdā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kē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yùnzǎ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juà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jiǎ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x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53280" y="1434960"/>
            <a:ext cx="17254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xià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cuō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宋体"/>
              </a:rPr>
              <a:t>piāomi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ǎ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ji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g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9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9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9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9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9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4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4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9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4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31800" y="2324160"/>
            <a:ext cx="79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452"/>
                </a:solidFill>
                <a:latin typeface="华文新魏"/>
                <a:ea typeface="华文新魏"/>
              </a:rPr>
              <a:t>　　通过“我” 看社戏前后的故事，赞美了农民和农家孩子热情好客，淳朴善良的品质，表达了对童年时代朋友情谊的怀恋，表现自己对人生理想境界的渴望和追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752480" y="4808520"/>
          <a:ext cx="2819520" cy="20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4808520"/>
                    <a:ext cx="281952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>
            <a:hlinkClick r:id="" action="ppaction://hlinkshowjump?jump=firstslide"/>
          </p:cNvPr>
          <p:cNvSpPr/>
          <p:nvPr/>
        </p:nvSpPr>
        <p:spPr>
          <a:xfrm>
            <a:off x="66326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previousslide"/>
          </p:cNvPr>
          <p:cNvSpPr/>
          <p:nvPr/>
        </p:nvSpPr>
        <p:spPr>
          <a:xfrm>
            <a:off x="57913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" action="ppaction://hlinkshowjump?jump=nextslide"/>
          </p:cNvPr>
          <p:cNvSpPr/>
          <p:nvPr/>
        </p:nvSpPr>
        <p:spPr>
          <a:xfrm>
            <a:off x="74754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5452"/>
                </a:solidFill>
                <a:latin typeface="华文新魏"/>
                <a:ea typeface="华文新魏"/>
              </a:rPr>
              <a:t>主        题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91116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452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5452"/>
                </a:solidFill>
                <a:latin typeface="Arial"/>
              </a:rPr>
              <a:t>课文结尾说：“真的，一直到现在，我实在再没有吃到那夜似的好豆，也不再看到那夜似的好戏了。”</a:t>
            </a:r>
            <a:br>
              <a:rPr sz="2800"/>
            </a:br>
            <a:r>
              <a:rPr b="1" lang="zh-CN" sz="2800" spc="-1" strike="noStrike">
                <a:solidFill>
                  <a:srgbClr val="005452"/>
                </a:solidFill>
                <a:latin typeface="Arial"/>
              </a:rPr>
              <a:t>对这个结尾应该怎样理解</a:t>
            </a:r>
            <a:r>
              <a:rPr b="1" lang="zh-CN" sz="2800" spc="-1" strike="noStrike">
                <a:solidFill>
                  <a:srgbClr val="005452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2806200"/>
            <a:ext cx="8291520" cy="32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因为那夜的豆是在“乐土”吃的，因为那夜的生活难忘，因为农村小朋友的情谊令人终生怀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那夜的豆和戏，还充满一种浪漫的理想色彩，表现了鲁迅对人生理想境界的渴望和追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3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7240" y="111276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夏夜行船、月夜归航在写景叙事上都非常精彩。夏夜行船通过哪些所见所闻所感来烘托“我”的急迫心情的</a:t>
            </a: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440" y="2793960"/>
            <a:ext cx="80010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所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月色便朦胧在这水气里。淡黑的起伏的连山，仿佛是踊跃的铁的兽脊似的，都远远地向船尾跑去了。……渐望见依稀的赵庄，……还有几点火，……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所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而且似乎听到歌吹了，……那声音大概是横笛，宛转，悠扬……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5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0314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月夜归航中“我”的心情与去看戏时有什么不同</a:t>
            </a: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265752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去时“我”的心情很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急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总“以为船慢”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而回航时“我”和小伙伴们偷豆吃，心情无比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欢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2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很重的心忽而轻松了，身体也似乎舒展到说不出的大。 </a:t>
            </a:r>
            <a:br>
              <a:rPr sz="3200"/>
            </a:b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“轻松”和“舒展”表现了“我”什么样的心情</a:t>
            </a: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95440" y="3573000"/>
            <a:ext cx="81532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轻松”和“舒展”与前文因看不成戏而沮丧形成鲜明对比，表现“我”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欢喜轻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心情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96960" y="1197000"/>
            <a:ext cx="77724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淡黑的起伏的连山，仿佛是踊跃的铁的兽脊似的，都远远地向船尾跑去了。 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山为什么说“踊跃”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360" y="3336840"/>
            <a:ext cx="82296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因为船快时上下动荡，人在船上会觉得山在踊跃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以“踊跃”写山，把静物写活了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1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6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95688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望戏台在灯火光中，却又如初来未到时候一般，又漂渺得像一座仙山楼阁，满被红霞罩着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“回望”表现了“我”怎样的心情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罩”表现了怎样的情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3789000"/>
            <a:ext cx="8001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回望”两字，表现“我”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依依不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心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罩”通过视觉表现戏台如梦如幻的情景，与来时呼应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8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19556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料六一公公竟非常感激起来，将大拇指一翘，得意的说道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被人偷了豆，六一公公为什么还要“感激”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1280" y="3139920"/>
            <a:ext cx="7921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因为城里读过书的“我”对他的豆的夸奖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表现了六一公公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淳朴厚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性格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5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0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5284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说写练习：我最喜欢双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452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5452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5452"/>
                </a:solidFill>
                <a:latin typeface="Arial"/>
                <a:ea typeface="华文彩云"/>
              </a:rPr>
              <a:t>提纲</a:t>
            </a:r>
            <a:r>
              <a:rPr b="0" lang="zh-CN" sz="4000" spc="-1" strike="noStrike">
                <a:solidFill>
                  <a:srgbClr val="005452"/>
                </a:solidFill>
                <a:latin typeface="Arial"/>
                <a:ea typeface="华文彩云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99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总说：在《社戏》里的一群小朋友中，我最喜欢双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分述理由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聪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见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考虑问题周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情商很高，善解人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523880" y="609480"/>
          <a:ext cx="6019920" cy="459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609480"/>
                    <a:ext cx="601992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1200" y="52574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祖居德寿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0320" y="98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人认为本文直接写社戏的内容太少，而写社戏以外的内容太多，因此建议把标题改为“平桥村一夜”之类的题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同意这一看法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此题没有标准答案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请各抒己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话练习：请将下文补充完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22240" y="1879560"/>
            <a:ext cx="77104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平桥村是我的“乐土”。一是可以免念“秩秩斯干，悠悠南山”。二是可以亲近大自然：掘蚯蚓，钓虾，放牛，这相对于禁闭在城镇大宅院中只看到四个角的天空的我而言，是多么新鲜有趣！最重要的，是我在这里受到许多优待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52"/>
                </a:solidFill>
                <a:latin typeface="Arial"/>
                <a:ea typeface="华文彩云"/>
              </a:rPr>
              <a:t>　　示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99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钓到虾，每次都是归我吃。打了太公，也决没人会想出“犯上”二字。我看不到社戏，小朋友们都叹息而表同情。还是双喜想出办法，解决了船的问题，并说出三条理由，解除了母亲和外祖母的顾虑，实现了我看社戏的愿望。开船时，年幼的都陪我坐在舱中，较大的聚在船尾划船。看戏时，桂生殷切地为我买豆浆舀水。回航时，阿发以“我们的大得多”为由，建议去“偷‘自家的豆……所有这些，都令我至今怀念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667800" y="549000"/>
            <a:ext cx="80074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示例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《社戏》里的一群小朋友中，我最喜欢双喜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首先，他最聪明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当迅哥儿看不成社戏，急得要哭时，他马上想出了好主意，解决了船的问题，并讲出三条理由，解除了大人们的顾虑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其次，是有见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看社戏时，铁头老生不肯翻筋斗，他解释说： “晚上看客少，铁头老生也懈了，谁肯显本领给白地看呢？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再次，是考虑问题周到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偷豆”时，他考虑到用了八公公的盐和柴，八公公会不会骂的问题，并且想出了对付的办法，真像一个运筹帷幄的将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最重要的是他情商很高，善解人意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回程时，大家“偷”阿发家的豆，他劝阻大家：“再多偷，倘给阿发的娘知道是要哭骂的。”这话既表现了善于为他人着想的好品质，又赞扬了阿发的厚道无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firstslide"/>
          </p:cNvPr>
          <p:cNvSpPr/>
          <p:nvPr/>
        </p:nvSpPr>
        <p:spPr>
          <a:xfrm>
            <a:off x="6404040" y="61574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5486400" y="58302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7323120" y="58302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0" name=""/>
          <p:cNvGraphicFramePr/>
          <p:nvPr/>
        </p:nvGraphicFramePr>
        <p:xfrm>
          <a:off x="1143000" y="514440"/>
          <a:ext cx="6934320" cy="520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514440"/>
                    <a:ext cx="693432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38360" y="1599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ff33"/>
                </a:solidFill>
                <a:latin typeface="Arial"/>
                <a:ea typeface="华文新魏"/>
              </a:rPr>
              <a:t>扩大阅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33200" y="2708280"/>
            <a:ext cx="699444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偷”字写出了神韵佳境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《社戏》原文删除部分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240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网上阅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5280" y="2463480"/>
            <a:ext cx="532440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99"/>
                </a:solidFill>
                <a:latin typeface="Arial"/>
                <a:ea typeface="楷体_GB2312"/>
              </a:rPr>
              <a:t>评读鲁迅主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99"/>
                </a:solidFill>
                <a:latin typeface="Arial"/>
                <a:ea typeface="楷体_GB2312"/>
              </a:rPr>
              <a:t>纪念鲁迅诞辰</a:t>
            </a:r>
            <a:r>
              <a:rPr b="1" lang="zh-CN" sz="4000" spc="-1" strike="noStrike">
                <a:solidFill>
                  <a:srgbClr val="ffcc99"/>
                </a:solidFill>
                <a:latin typeface="Arial"/>
                <a:ea typeface="楷体_GB2312"/>
              </a:rPr>
              <a:t>120</a:t>
            </a:r>
            <a:r>
              <a:rPr b="1" lang="zh-CN" sz="4000" spc="-1" strike="noStrike">
                <a:solidFill>
                  <a:srgbClr val="ffcc99"/>
                </a:solidFill>
                <a:latin typeface="Arial"/>
                <a:ea typeface="楷体_GB2312"/>
              </a:rPr>
              <a:t>周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99"/>
                </a:solidFill>
                <a:latin typeface="Arial"/>
                <a:ea typeface="楷体_GB2312"/>
              </a:rPr>
              <a:t>鲁迅全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51460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>
            <a:hlinkClick r:id="" action="ppaction://hlinkshowjump?jump=firstslide"/>
          </p:cNvPr>
          <p:cNvSpPr/>
          <p:nvPr/>
        </p:nvSpPr>
        <p:spPr>
          <a:xfrm>
            <a:off x="6937200" y="6332040"/>
            <a:ext cx="830520" cy="457920"/>
          </a:xfrm>
          <a:custGeom>
            <a:avLst/>
            <a:gdLst>
              <a:gd name="textAreaLeft" fmla="*/ 29520 w 830520"/>
              <a:gd name="textAreaRight" fmla="*/ 801000 w 83052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62" h="21600">
                <a:moveTo>
                  <a:pt x="0" y="0"/>
                </a:moveTo>
                <a:lnTo>
                  <a:pt x="39162" y="0"/>
                </a:lnTo>
                <a:lnTo>
                  <a:pt x="39162" y="21600"/>
                </a:lnTo>
                <a:lnTo>
                  <a:pt x="0" y="21600"/>
                </a:lnTo>
                <a:close/>
              </a:path>
              <a:path fill="lightenLess" w="39162" h="21600">
                <a:moveTo>
                  <a:pt x="0" y="0"/>
                </a:moveTo>
                <a:lnTo>
                  <a:pt x="39162" y="0"/>
                </a:lnTo>
                <a:lnTo>
                  <a:pt x="37762" y="1400"/>
                </a:lnTo>
                <a:lnTo>
                  <a:pt x="1400" y="1400"/>
                </a:lnTo>
                <a:close/>
              </a:path>
              <a:path fill="darken" w="39162" h="21600">
                <a:moveTo>
                  <a:pt x="39162" y="0"/>
                </a:moveTo>
                <a:lnTo>
                  <a:pt x="39162" y="21600"/>
                </a:lnTo>
                <a:lnTo>
                  <a:pt x="37762" y="20200"/>
                </a:lnTo>
                <a:lnTo>
                  <a:pt x="37762" y="1400"/>
                </a:lnTo>
                <a:close/>
              </a:path>
              <a:path fill="darkenLess" w="39162" h="21600">
                <a:moveTo>
                  <a:pt x="3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62" y="20200"/>
                </a:lnTo>
                <a:close/>
              </a:path>
              <a:path fill="lighten" w="3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>
            <a:hlinkClick r:id="" action="ppaction://hlinkshowjump?jump=previousslide"/>
          </p:cNvPr>
          <p:cNvSpPr/>
          <p:nvPr/>
        </p:nvSpPr>
        <p:spPr>
          <a:xfrm>
            <a:off x="6095880" y="600480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4951440" y="201600"/>
          <a:ext cx="144792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1440" y="201600"/>
                    <a:ext cx="144792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6981840" y="219240"/>
          <a:ext cx="1546200" cy="133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81840" y="219240"/>
                    <a:ext cx="15462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755640" y="217440"/>
          <a:ext cx="1523880" cy="133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17440"/>
                    <a:ext cx="15238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860560" y="223920"/>
          <a:ext cx="1509840" cy="1333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60560" y="223920"/>
                    <a:ext cx="15098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结构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30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46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一，平桥村是我的乐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46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二，到赵庄看社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46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　１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看戏前的波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46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　２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看戏途中的见闻感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46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　３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看社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46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　４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深夜归航并“偷”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46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三，看社戏后的余波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659640" y="1052640"/>
          <a:ext cx="1546200" cy="133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1052640"/>
                    <a:ext cx="15462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0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5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0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0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5" dur="5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0" dur="500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03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452"/>
                </a:solidFill>
                <a:latin typeface="Arial"/>
              </a:rPr>
              <a:t>预习须思考的问题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4920" y="2278080"/>
            <a:ext cx="84582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本文题目是“社戏”，却有许多内容不是写看社戏，这是离题吗？为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所看的社戏并不好，可为什么课文结尾却说“真的，一直到现在，我实在再没有吃到那夜似的好豆，——也不再看到那夜似的好戏了”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32920" y="990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　　“但或者因为高等动物了的缘故罢，黄牛、水牛都欺生”有什么含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9898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高等动物都欺生，人是最高等的动物，更应欺生，可是平桥村的小朋友却不欺生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这就突出了小朋友热情好客、纯朴善良的品质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4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057400" y="503280"/>
          <a:ext cx="5029200" cy="36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03280"/>
                    <a:ext cx="502920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6404040" y="6256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5562720" y="5928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7246800" y="5928840"/>
            <a:ext cx="830520" cy="1112400"/>
          </a:xfrm>
          <a:custGeom>
            <a:avLst/>
            <a:gdLst>
              <a:gd name="textAreaLeft" fmla="*/ 53640 w 830520"/>
              <a:gd name="textAreaRight" fmla="*/ 776880 w 83052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28">
                <a:moveTo>
                  <a:pt x="0" y="0"/>
                </a:moveTo>
                <a:lnTo>
                  <a:pt x="21600" y="0"/>
                </a:lnTo>
                <a:lnTo>
                  <a:pt x="21600" y="28928"/>
                </a:lnTo>
                <a:lnTo>
                  <a:pt x="0" y="28928"/>
                </a:lnTo>
                <a:close/>
              </a:path>
              <a:path fill="lightenLess" w="21600" h="28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28">
                <a:moveTo>
                  <a:pt x="21600" y="0"/>
                </a:moveTo>
                <a:lnTo>
                  <a:pt x="21600" y="28928"/>
                </a:lnTo>
                <a:lnTo>
                  <a:pt x="20200" y="27528"/>
                </a:lnTo>
                <a:lnTo>
                  <a:pt x="20200" y="1400"/>
                </a:lnTo>
                <a:close/>
              </a:path>
              <a:path fill="darkenLess" w="21600" h="28928">
                <a:moveTo>
                  <a:pt x="21600" y="28928"/>
                </a:moveTo>
                <a:lnTo>
                  <a:pt x="0" y="28928"/>
                </a:lnTo>
                <a:lnTo>
                  <a:pt x="1400" y="27528"/>
                </a:lnTo>
                <a:lnTo>
                  <a:pt x="20200" y="27528"/>
                </a:lnTo>
                <a:close/>
              </a:path>
              <a:path fill="lighten" w="21600" h="28928">
                <a:moveTo>
                  <a:pt x="0" y="28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4796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的外婆家——绍兴安桥头村</a:t>
            </a:r>
            <a:br>
              <a:rPr sz="36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鲁迅少年时常随母亲来此居住，与这里的农家孩子结下深厚友谊，所见所闻，成为他日后写作的素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96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解释词语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19160" y="2157480"/>
            <a:ext cx="175248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宛转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悠扬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弥散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蕴藻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63680" y="2181240"/>
            <a:ext cx="641196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歌声、鸟鸣等）抑扬动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形容声音时高时低而和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弥漫消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水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6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1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6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1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280" y="1044360"/>
            <a:ext cx="77770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是正对船头的一丛松柏林，我去年也曾经去游玩过，还看见破的石马倒在地下，一个石羊蹲在草里呢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5452"/>
                </a:solidFill>
                <a:latin typeface="Arial"/>
              </a:rPr>
              <a:t>删除“还看见破的石马倒在地下，一个石羊蹲在草里呢”可以吗？为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63480" y="392580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不可。因为这样的细节使人感到真切具体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8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560" y="7362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5452"/>
                </a:solidFill>
                <a:latin typeface="Arial"/>
              </a:rPr>
              <a:t>作者写夏夜行船，叙述了“我”的所见、所闻、所感等。请把这些语句分别摘出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58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所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月色便朦胧在这水气里。淡黑的起伏的连山，仿佛是踊跃的铁的兽脊似的，都远远地向船尾跑去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所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而且似乎听到歌吹了……那声音大概是横笛，宛转，悠扬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所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但我却还以为船慢。……使我的心也沉静，然而又自失起来，觉得要和他弥散在含着豆麦蕴藻之香的夜气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firstslide"/>
          </p:cNvPr>
          <p:cNvSpPr/>
          <p:nvPr/>
        </p:nvSpPr>
        <p:spPr>
          <a:xfrm>
            <a:off x="6404040" y="640836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5486400" y="608112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7323120" y="608112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5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0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5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按角色出场顺序，理清从望见戏台到离开戏台的情节脉络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3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１</a:t>
            </a: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望见戏台，泊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２</a:t>
            </a: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老生唱——挤在船头看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３</a:t>
            </a: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旦唱——不很有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生唱——我有些疲倦了桂生为我买豆浆舀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丑出场——振作精神笑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老旦出场——扫兴，唱得大家昏昏欲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7.</a:t>
            </a:r>
            <a:r>
              <a:rPr b="0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开戏台，回望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2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7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2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7" dur="500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2" dur="500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7" dur="500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2" dur="500"/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98200" y="1404720"/>
            <a:ext cx="3313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52"/>
                </a:solidFill>
                <a:latin typeface="Arial"/>
              </a:rPr>
              <a:t>为什么不想看戏了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53920" y="3573360"/>
            <a:ext cx="7678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因为戏并不好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铁头老生不肯翻筋斗；最愿意看的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等了许多时都不见；老旦不停地唱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firstslide"/>
          </p:cNvPr>
          <p:cNvSpPr/>
          <p:nvPr/>
        </p:nvSpPr>
        <p:spPr>
          <a:xfrm>
            <a:off x="6404040" y="614808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>
            <a:hlinkClick r:id="" action="ppaction://hlinkshowjump?jump=previousslide"/>
          </p:cNvPr>
          <p:cNvSpPr/>
          <p:nvPr/>
        </p:nvSpPr>
        <p:spPr>
          <a:xfrm>
            <a:off x="5486400" y="5820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" action="ppaction://hlinkshowjump?jump=nextslide"/>
          </p:cNvPr>
          <p:cNvSpPr/>
          <p:nvPr/>
        </p:nvSpPr>
        <p:spPr>
          <a:xfrm>
            <a:off x="7323120" y="582084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rcRect l="8865" t="0" r="6326" b="6131"/>
          <a:stretch/>
        </p:blipFill>
        <p:spPr>
          <a:xfrm>
            <a:off x="4643280" y="1044720"/>
            <a:ext cx="4176720" cy="31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9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4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9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绍兴的社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6858000" cy="44164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6404040" y="6332040"/>
            <a:ext cx="830160" cy="457920"/>
          </a:xfrm>
          <a:custGeom>
            <a:avLst/>
            <a:gdLst>
              <a:gd name="textAreaLeft" fmla="*/ 29520 w 830160"/>
              <a:gd name="textAreaRight" fmla="*/ 800640 w 8301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45" h="21600">
                <a:moveTo>
                  <a:pt x="0" y="0"/>
                </a:moveTo>
                <a:lnTo>
                  <a:pt x="39145" y="0"/>
                </a:lnTo>
                <a:lnTo>
                  <a:pt x="39145" y="21600"/>
                </a:lnTo>
                <a:lnTo>
                  <a:pt x="0" y="21600"/>
                </a:lnTo>
                <a:close/>
              </a:path>
              <a:path fill="lightenLess" w="39145" h="21600">
                <a:moveTo>
                  <a:pt x="0" y="0"/>
                </a:moveTo>
                <a:lnTo>
                  <a:pt x="39145" y="0"/>
                </a:lnTo>
                <a:lnTo>
                  <a:pt x="37745" y="1400"/>
                </a:lnTo>
                <a:lnTo>
                  <a:pt x="1400" y="1400"/>
                </a:lnTo>
                <a:close/>
              </a:path>
              <a:path fill="darken" w="39145" h="21600">
                <a:moveTo>
                  <a:pt x="39145" y="0"/>
                </a:moveTo>
                <a:lnTo>
                  <a:pt x="39145" y="21600"/>
                </a:lnTo>
                <a:lnTo>
                  <a:pt x="37745" y="20200"/>
                </a:lnTo>
                <a:lnTo>
                  <a:pt x="37745" y="1400"/>
                </a:lnTo>
                <a:close/>
              </a:path>
              <a:path fill="darkenLess" w="39145" h="21600">
                <a:moveTo>
                  <a:pt x="39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5" y="20200"/>
                </a:lnTo>
                <a:close/>
              </a:path>
              <a:path fill="lighten" w="39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548640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上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7323120" y="6004800"/>
            <a:ext cx="830160" cy="1112400"/>
          </a:xfrm>
          <a:custGeom>
            <a:avLst/>
            <a:gdLst>
              <a:gd name="textAreaLeft" fmla="*/ 53640 w 830160"/>
              <a:gd name="textAreaRight" fmla="*/ 776520 w 830160"/>
              <a:gd name="textAreaTop" fmla="*/ 53640 h 1112400"/>
              <a:gd name="textAreaBottom" fmla="*/ 1058760 h 1112400"/>
            </a:gdLst>
            <a:ahLst/>
            <a:rect l="textAreaLeft" t="textAreaTop" r="textAreaRight" b="textAreaBottom"/>
            <a:pathLst>
              <a:path w="21600" h="28940">
                <a:moveTo>
                  <a:pt x="0" y="0"/>
                </a:moveTo>
                <a:lnTo>
                  <a:pt x="21600" y="0"/>
                </a:lnTo>
                <a:lnTo>
                  <a:pt x="21600" y="28940"/>
                </a:lnTo>
                <a:lnTo>
                  <a:pt x="0" y="28940"/>
                </a:lnTo>
                <a:close/>
              </a:path>
              <a:path fill="lightenLess" w="21600" h="289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40">
                <a:moveTo>
                  <a:pt x="21600" y="0"/>
                </a:moveTo>
                <a:lnTo>
                  <a:pt x="21600" y="28940"/>
                </a:lnTo>
                <a:lnTo>
                  <a:pt x="20200" y="27541"/>
                </a:lnTo>
                <a:lnTo>
                  <a:pt x="20200" y="1400"/>
                </a:lnTo>
                <a:close/>
              </a:path>
              <a:path fill="darkenLess" w="21600" h="28940">
                <a:moveTo>
                  <a:pt x="21600" y="28940"/>
                </a:moveTo>
                <a:lnTo>
                  <a:pt x="0" y="28940"/>
                </a:lnTo>
                <a:lnTo>
                  <a:pt x="1400" y="27541"/>
                </a:lnTo>
                <a:lnTo>
                  <a:pt x="20200" y="27541"/>
                </a:lnTo>
                <a:close/>
              </a:path>
              <a:path fill="lighten" w="21600" h="28940">
                <a:moveTo>
                  <a:pt x="0" y="289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4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下页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09-12-10T14:50:31Z</dcterms:modified>
  <cp:revision>139</cp:revision>
  <dc:subject/>
  <dc:title>PowerPoint Presentation</dc:title>
</cp:coreProperties>
</file>